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2D6-D3ED-4051-8812-8DDE8EEC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594-0CA5-4E45-8FBB-BA9E8277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BB8-D1B0-4BB1-A2E5-955935A9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4DA-6136-40EC-9590-706F868E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36D4-3BC4-41F5-AD4E-2DC4E181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21FA-3446-4A64-B30C-B3737993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449-67C1-4E72-B59B-9F46E7AB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B940-36C8-47B0-AC58-DE90437E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A336-9867-4537-AD00-739A23E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3450-FDA8-4FF4-9F81-3DEAF2C4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DC85-01F7-4949-A32D-909F3D36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707-A412-4658-9769-B612FF49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BBA6-6112-4430-93C4-50A3E3E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79FD-1BB3-4F12-8934-24FB46C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A18D-84CF-4AC4-A880-0AFEF5C7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7883-94C8-4AAA-B9DA-D03C5DCE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19E1-FA74-4FD2-9D1F-2D22DAEB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D6E-B2FF-4A8B-87C3-87EF0497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955-3544-4015-AF11-FF6E5EDA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B27-051A-413D-B5E2-68F84A89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AB3-BC8F-4150-90F1-862E2274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477-83B3-4F98-8265-5B3363C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2C5-90B6-40F8-9BF2-E3CADEA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DC0-0BD1-489E-BE24-0937F49F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F69F-62CB-4135-B196-12CE0A2B0B1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E4FD-A124-4E73-8EE6-7675579E1DC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Leg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egal Issues Handled Differently by Cooperatives than by Corpor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ual Obligations of Ow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rporate shareholders generally have no contractual relationship to the corporation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often make contracts with members to insure that those members will do business with the cooperative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have the right to take action against those members who fail to fulfill their contract but may be reluctant to sue someone who is also an own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or 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OFs can have any natural person as a directo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are required to have only agricultural producers who are members of the cooperative as director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 lead to loss of diversity and balanc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ur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side advisory memb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nagement team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sultan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Corporations and Cooperatives have some common threads…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operatives are truly uni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stor owned firms (IOF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usinesses owned by investors. IOFs include sole proprietors, corporations, partnerships, and limited liability companies (LLC’s)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allocated reser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ity not allocated to individual members. Sources include tax-paid net income retained but not allocated, unclaimed checks, and appraisal surplu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9: Antitrust La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trust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herman Act-prohibited restraint of trade. Farm associations were unintended consequ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yton Act-attempted to excluded farm associations but did not prove usefu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pper-Volstead-1922-provided cooperatives limited immunity and prescribed organizational form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rman Antitrust Act-18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790280"/>
            <a:ext cx="72388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hibits agreements which “unreasonably” restrain trad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pecifically prohibi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ce Fixing Agreemen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et Division Between Competit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ertain Boycotts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activities are judged by their impact on competition (example: joint ventur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tended Consequences of the Sherman Anti-Trust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ile the act was intended to curb the behavior of big banks and railroads the first groups prosecuted were farm associations and labor un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wo farmers meeting to discuss collectively marketing their crop to achieve a better price were regarded as two businesses in the same industry who were attempting to fix pr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yton Act-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cluded farm associations without capital stoc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clusion proved not to be very usefu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act also expanded anti-trust protection by prohibiting mergers or acquisitions where competition may be substantially lessened.  (That aspect of the act is not as important for our understanding of cooperatives.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asn’t the Clayton Act No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d not describe the organizational requirements for a “farm association” so it was not clear what qualifi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d not explicitly describe the activities that were protect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s made lawmakers think more closely about what they were trying to exclude and look to the defining characteristics of a coopera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ous Laws Impact C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64800" y="15238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are chartered under state law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deral law gives cooperatives limited exemption from anti-trust prosecu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ate “Corporate Farming” laws often exempt cooperati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rious federal and state laws relating tax treatment, franchise tax, securities registration and other areas may have explicit definitions for cooperati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ut for most issues cooperatives have the same treatment as other corporations.  There are some important differences to not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inson Patman Act- 1936 amendment to Clayton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hibits price discrimination by a supplier where the effect may be to substantially lessen competi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tects small retail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pecifically exempts cooperatives who pay refunds to members.  (note that the amendment was passed after Capper Volstead so the definition of a cooperative was now use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per-Volstead Act of 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8288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3d9"/>
                </a:solidFill>
                <a:latin typeface="Monotype Corsiva"/>
              </a:rPr>
              <a:t>The Magna Carta of Cooperativ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per-Volstead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ded cooperatives with limited immunity from anti-trust regul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fined appropriate activities for cooperatives to have immun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scribed organizational form for cooperatives to have immun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ows farmers to be active participants in the market rather than simply price-taker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ows value added cooperatives to exist without fear of legal action against them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ows economies of size without violation of antitrust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ows for the continued local control of products and servic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za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utual benefit of members (profits distributed in proportion to us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oting or limit dividends -- Either one member one vote  or limit dividends to less than 8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operative cannot engage in the marketing of non-member products more than they do the products of their memb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te that the requirements to qualify for Capper Volstead relate back to cooperative princip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Secretary of 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pper-Volstead grants enforcement authority 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ke corrective action in controlling unduly enhance pri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allenge the operation of that associatio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agricultural producer or association can enhance prices, but not “unduly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s why we refer to is a limited immun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emption available to agricultural producers only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nly applies to marketing activ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mbinations of producers and non producers not allow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8280" y="838080"/>
            <a:ext cx="74678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per Volstead has strict interpretation of “produc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8280" y="2421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son engaged in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production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of agricultural products=produc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n-producers who own packing houses or poultry processors who don’t take all of the risks of productions do not qualif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s agriculture has changed and farm operations have become more complex this distinction has become problematic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Even One” requir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se Swayne Co, Inc vs Sunkis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5% of of Sunkist volume came from non-member packing hou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urt ruled that the existence of even one ineligible member eliminated Capper Volstead elig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herman Act-prohibited restraint of trade-farmers unintentionally effect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yton Act-attempted to excluded farm associ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pper-Volstead-1922-provided cooperatives limited immunity and prescribed organizational for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te enabling legislations looked to Capper Volstead for required for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the Gaps in the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gricultural statutes tend to be brief and broad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rporate law is often used as the final interpretive power of cooperative statutes and bylaw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Challenges to Capper Volst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Joint Department of Justice and Dept of Agricultural hearing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stern Mushroom Marketing Cooperative-supply contr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ted potato growers of America-managing potato suppl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iry cooperatives-herd reduc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ted Egg Producers-shrink egg flocks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t of Justic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gress granted this benefit in recognition of hardships that producers face when standing alone in the market pla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ight conclude that Capper Volstead Act is not the right law for the state of the industry at this time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CCF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rket concentration is as strong or stronger as in 192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subject to numerous practical constraints that limit them from achieving excess market pow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rmer cooperatives increase competition, lower production costs and increase farmer incom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y action to dilute Capper Volstead would harm cooperatives and damage rural Americ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challenges to Capper Volst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olve around the question of what a cooperative can and cannot do to manage supply and improve pr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n a cooperative engage in supply control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other issue is whether a grower who also processes (example operates a potato packing house) is still a grower or is an ineligible memb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ern Mushroom Marketing Coope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moved 8% of mushroom production capacity by purchasing or leasing mushroom farms and shutting them dow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ourt found it "troubling that the EMMC appears to have been organized for the benefit of mushroom distributors," rather than grower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ourt was unwilling to apply Capper Volstead protection to the structure in which the grower members had a 50 percent ownership interest in the separate distribution company, with a third party owning the other 50 percen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Potato Growers of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gional cooperative operating in 10 stat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 its motion for dismissal, United Potato argued that its practice of limiting U.S. potato acreage in order to strengthen markets is protected under the Capper-Volstead Act, which provides agricultural cooperatives limited exemption from federal antitrust law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laintiffs argued that no court in the 85 years since Capper-Volstead was passed has ruled specifically on the issue of “production controls” — limits placed on planting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other issue is whether a grower who also processes (example operates a potato packing house) is still a grower or is an ineligible memb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operative agreed to pay $25M to retailers and consumers without admitting wrongdo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Challenges-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istence of Capper Volstead limited immunity is essential for the continuation of cooperati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challenges have related to supply control and the complexity as farmers have ownership in other business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have reached settlements leaving the question ope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early the legal environment is not as friendly to cooperatives as in 192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rporate systems are based on stoc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perative systems a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ne member One vote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ased on the amount of business done with the cooperativ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ure one member/one vote is the IRS standard of a coopera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ddressed in byla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/Shareholder Vot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at decisions must be taken to a vote by the membership and how can a group of members petition for a vote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r Eligibil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o can vote? Husbands, Wives, Children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Inform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29"/>
                </a:solidFill>
                <a:latin typeface="Arial"/>
              </a:rPr>
              <a:t>How much information are members entitled to? How much is too much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s (on invested capital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idend limits referred to as subordination of capit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ny states have “Bright Line Test” (example: dividends limited to 8% in Oklahoma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perative-IOF hybrids raise the issue of what is the appropriate mix of dividends and patron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ation Distribu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, like corporations, are required to take care of valid claims of creditors in connection with liquidation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UT any remaining surplus is distributed as patronage to active members based on past patronage unlike investor corporations where it is distributed in proportion to ownershi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ends to favor active members rather than passive memb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on and Allocation of Earning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issuing qualified stock refunds must pay 20% of patronage earnings to members and patrons in cas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RS states that cooperatives cannot retain excessive amounts of their earnings in unallocated reser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ny cooperatives have more than 50% of total equity in unallocated and some question whether this violates cooperative principles. So far it has not been challenged by I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S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OFs may issue capital s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may issue stock and operate as stock cooperatives 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without capital stock and operate as membership cooperativ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of Loss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OFs allocate losses in proportion to ownershi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peratives charge losses to the members according to the amount of business done with the cooperative during some appropriate perio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4:43:32Z</dcterms:created>
  <dc:creator>Bill Nelson</dc:creator>
  <dc:description/>
  <dc:language>en-US</dc:language>
  <cp:lastModifiedBy>Carvalho, Mckenzie</cp:lastModifiedBy>
  <cp:lastPrinted>1999-01-28T13:38:50Z</cp:lastPrinted>
  <dcterms:modified xsi:type="dcterms:W3CDTF">2019-08-20T21:03:57Z</dcterms:modified>
  <cp:revision>48</cp:revision>
  <dc:subject/>
  <dc:title>7. ANTITRUST LAWS</dc:title>
</cp:coreProperties>
</file>