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3093-CB6D-4F2E-A761-21B0FB80E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8198-1BE3-4C8F-AD55-9DD852EB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256B-AD42-4035-B2FB-1E912349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A1DE-F71D-43C5-981D-488A6E4D1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A0F8-0014-49AA-A5D7-78BBB8EC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9AAD-85CB-487E-8F42-7AC2FA40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319F-65B5-4D48-9B9D-703D0538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9FEF-0786-4982-83EB-698619A4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A310-284B-4F8F-8AC5-BB767CA6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23D4-52E1-4F16-91E9-7C9930C9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BFAE-F0D1-4829-B8AE-FB53C956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1C27-C44E-4C98-9F14-B8194EAE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EA9A-D45F-430F-8C35-1DD06B56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B51B-CDEA-4745-A95C-38CEF2FC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4746-A541-4429-8421-79FFB6D9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DC0A-56DA-45DD-B867-C4B32D02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D8A4-C7F4-40BE-9498-6ABE191B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6850-EB4A-455E-A26E-EF3296FC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537C-8BE5-48C0-997E-F19E58A0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5EAA-7755-40FF-9D65-D73F2581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E621-CF7C-4663-9EE6-4E8B2285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E454-EC81-4E13-ACC8-B9566428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3907-6568-4CD9-9B74-45984E97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BA17-FFB2-42FD-B855-E30B593B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A712-1991-46C5-8A89-7A5B88C0E7A3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3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6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7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F4B2-54F7-4AFF-8C44-F735CFEFFE5E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perative Legal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Legal Issues Handled Differently by Cooperatives than by Corporatio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actual Obligations of Ow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rporate shareholders generally have no contractual relationship to the corporation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operatives often make contracts with members to insure that those members will do business with the cooperative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operatives have the right to take action against those members who fail to fulfill their contract but may be reluctant to sue someone who is also an own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or Elig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OFs can have any natural person as a director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operatives are required to have only agricultural producers who are members of the cooperative as director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an lead to loss of diversity and balance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ur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utside advisory memb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anagement team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onsultant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le Corporations and Cooperatives have some common threads…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operatives are truly uniqu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nvestor owned firms (IOF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usinesses owned by investors. IOFs include sole proprietors, corporations, partnerships, and limited liability companies (LLC’s)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Unallocated reserv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quity not allocated to individual members. Sources include tax-paid net income retained but not allocated, unclaimed checks, and appraisal surplus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pter 9: Antitrust Law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trust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herman Act-prohibited restraint of trade. Farm associations were unintended consequenc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ayton Act-attempted to excluded farm associations but did not prove usefu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apper-Volstead-1922-provided cooperatives limited immunity and prescribed organizational form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rman Antitrust Act-18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790280"/>
            <a:ext cx="723888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rohibits agreements which “unreasonably” restrain trade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pecifically prohibite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ce Fixing Agreement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arket Division Between Competito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ertain Boycotts</a:t>
            </a:r>
            <a:br>
              <a:rPr sz="2400"/>
            </a:b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ther activities are judged by their impact on competition (example: joint venture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tended Consequences of the Sherman Anti-Trust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ile the act was intended to curb the behavior of big banks and railroads the first groups prosecuted were farm associations and labor unio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wo farmers meeting to discuss collectively marketing their crop to achieve a better price were regarded as two businesses in the same industry who were attempting to fix pric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yton Act-19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xcluded farm associations without capital stock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xclusion proved not to be very usefu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 act also expanded anti-trust protection by prohibiting mergers or acquisitions where competition may be substantially lessened.  (That aspect of the act is not as important for our understanding of cooperatives.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Wasn’t the Clayton Act Not Usef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d not describe the organizational requirements for a “farm association” so it was not clear what qualifi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d not explicitly describe the activities that were protect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s made lawmakers think more closely about what they were trying to exclude and look to the defining characteristics of a cooperativ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ous Laws Impact C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64800" y="152388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operatives are chartered under state law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ederal law gives cooperatives limited exemption from anti-trust prosecu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tate “Corporate Farming” laws often exempt cooperativ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Various federal and state laws relating tax treatment, franchise tax, securities registration and other areas may have explicit definitions for cooperativ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ut for most issues cooperatives have the same treatment as other corporations.  There are some important differences to note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binson Patman Act- 1936 amendment to Clayton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hibits price discrimination by a supplier where the effect may be to substantially lessen competitio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tects small retailer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pecifically exempts cooperatives who pay refunds to members.  (note that the amendment was passed after Capper Volstead so the definition of a cooperative was now used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per-Volstead Act of 19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8288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3d9"/>
                </a:solidFill>
                <a:latin typeface="Monotype Corsiva"/>
              </a:rPr>
              <a:t>The Magna Carta of Cooperativ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per-Volstead-19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vided cooperatives with limited immunity from anti-trust regulatio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efined appropriate activities for cooperatives to have immunit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escribed organizational form for cooperatives to have immunit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llows farmers to be active participants in the market rather than simply price-taker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llows value added cooperatives to exist without fear of legal action against them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llows economies of size without violation of antitrust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llows for the continued local control of products and service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ganizational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utual benefit of members (profits distributed in proportion to use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Voting or limit dividends -- Either one member one vote  or limit dividends to less than 8%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ooperative cannot engage in the marketing of non-member products more than they do the products of their memb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ote that the requirements to qualify for Capper Volstead relate back to cooperative principl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e of the Secretary of Agri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apper-Volstead grants enforcement authority to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ake corrective action in controlling unduly enhance pric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hallenge the operation of that association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n agricultural producer or association can enhance prices, but not “unduly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s why we refer to is a limited immunit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Lim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xemption available to agricultural producers only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Only applies to marketing activiti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mbinations of producers and non producers not allowe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8280" y="838080"/>
            <a:ext cx="746784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per Volstead has strict interpretation of “producer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8280" y="242100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erson engaged in </a:t>
            </a: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production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of agricultural products=produc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on-producers who own packing houses or poultry processors who don’t take all of the risks of productions do not qualif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s agriculture has changed and farm operations have become more complex this distinction has become problematic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Even One” require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ase Swayne Co, Inc vs Sunkis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5% of of Sunkist volume came from non-member packing hous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urt ruled that the existence of even one ineligible member eliminated Capper Volstead eligibilit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herman Act-prohibited restraint of trade-farmers unintentionally effect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ayton Act-attempted to excluded farm associatio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apper-Volstead-1922-provided cooperatives limited immunity and prescribed organizational for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ate enabling legislations looked to Capper Volstead for required for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perativ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ing the Gaps in the Law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gricultural statutes tend to be brief and broad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rporate law is often used as the final interpretive power of cooperative statutes and bylaw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ent Challenges to Capper Volst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Joint Department of Justice and Dept of Agricultural hearing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astern Mushroom Marketing Cooperative-supply contro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United potato growers of America-managing potato suppli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airy cooperatives-herd reduc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United Egg Producers-shrink egg flocks</a:t>
            </a:r>
            <a:br>
              <a:rPr sz="3200"/>
            </a:b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t of Justice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ngress granted this benefit in recognition of hardships that producers face when standing alone in the market plac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ight conclude that Capper Volstead Act is not the right law for the state of the industry at this time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CCFC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arket concentration is as strong or stronger as in 1922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operatives subject to numerous practical constraints that limit them from achieving excess market pow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armer cooperatives increase competition, lower production costs and increase farmer incom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ny action to dilute Capper Volstead would harm cooperatives and damage rural Americ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ent challenges to Capper Volst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volve around the question of what a cooperative can and cannot do to manage supply and improve pric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an a cooperative engage in supply control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nother issue is whether a grower who also processes (example operates a potato packing house) is still a grower or is an ineligible memb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stern Mushroom Marketing Cooper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moved 8% of mushroom production capacity by purchasing or leasing mushroom farms and shutting them dow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e court found it "troubling that the EMMC appears to have been organized for the benefit of mushroom distributors," rather than grower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e Court was unwilling to apply Capper Volstead protection to the structure in which the grower members had a 50 percent ownership interest in the separate distribution company, with a third party owning the other 50 percent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ed Potato Growers of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gional cooperative operating in 10 stat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n its motion for dismissal, United Potato argued that its practice of limiting U.S. potato acreage in order to strengthen markets is protected under the Capper-Volstead Act, which provides agricultural cooperatives limited exemption from federal antitrust law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laintiffs argued that no court in the 85 years since Capper-Volstead was passed has ruled specifically on the issue of “production controls” — limits placed on planting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nother issue is whether a grower who also processes (example operates a potato packing house) is still a grower or is an ineligible membe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ooperative agreed to pay $25M to retailers and consumers without admitting wrongdoi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ent Challenges-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xistence of Capper Volstead limited immunity is essential for the continuation of cooperativ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cent challenges have related to supply control and the complexity as farmers have ownership in other business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operatives have reached settlements leaving the question ope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learly the legal environment is not as friendly to cooperatives as in 1922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ting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rporate systems are based on stock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operative systems ar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One member One vote </a:t>
            </a: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ased on the amount of business done with the cooperativ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ure one member/one vote is the IRS standard of a cooperativ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perative Iss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addressed in byla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/Shareholder Vot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What decisions must be taken to a vote by the membership and how can a group of members petition for a vote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ter Eligibilit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Who can vote? Husbands, Wives, Children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Informa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29"/>
                </a:solidFill>
                <a:latin typeface="Arial"/>
              </a:rPr>
              <a:t>How much information are members entitled to? How much is too much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perativ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nds (on invested capital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vidend limits referred to as subordination of capita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any states have “Bright Line Test” (example: dividends limited to 8% in Oklahoma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operative-IOF hybrids raise the issue of what is the appropriate mix of dividends and patronag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perativ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ation Distribution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operatives, like corporations, are required to take care of valid claims of creditors in connection with liquidation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UT any remaining surplus is distributed as patronage to active members based on past patronage unlike investor corporations where it is distributed in proportion to ownership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ends to favor active members rather than passive member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perativ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016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ention and Allocation of Earning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operatives issuing qualified stock refunds must pay 20% of patronage earnings to members and patrons in cash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RS states that cooperatives cannot retain excessive amounts of their earnings in unallocated reserv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any cooperatives have more than 50% of total equity in unallocated and some question whether this violates cooperative principles. So far it has not been challenged by IR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perativ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 Stock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OFs may issue capital stock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operatives may issue stock and operate as stock cooperatives  </a:t>
            </a: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without capital stock and operate as membership cooperative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ing of Loss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OFs allocate losses in proportion to ownership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operatives charge losses to the members according to the amount of business done with the cooperative during some appropriate perio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4:43:32Z</dcterms:created>
  <dc:creator>Bill Nelson</dc:creator>
  <dc:description/>
  <dc:language>en-US</dc:language>
  <cp:lastModifiedBy>Carvalho, Mckenzie</cp:lastModifiedBy>
  <cp:lastPrinted>1999-01-28T13:38:50Z</cp:lastPrinted>
  <dcterms:modified xsi:type="dcterms:W3CDTF">2019-08-20T21:03:57Z</dcterms:modified>
  <cp:revision>48</cp:revision>
  <dc:subject/>
  <dc:title>7. ANTITRUST LAWS</dc:title>
</cp:coreProperties>
</file>