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38"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39" name="PlaceHolder 2"/>
          <p:cNvSpPr>
            <a:spLocks noGrp="1"/>
          </p:cNvSpPr>
          <p:nvPr>
            <p:ph type="dt" idx="16"/>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40"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41"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2" name="PlaceHolder 5"/>
          <p:cNvSpPr>
            <a:spLocks noGrp="1"/>
          </p:cNvSpPr>
          <p:nvPr>
            <p:ph type="ftr" idx="17"/>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243" name="PlaceHolder 6"/>
          <p:cNvSpPr>
            <a:spLocks noGrp="1"/>
          </p:cNvSpPr>
          <p:nvPr>
            <p:ph type="sldNum" idx="18"/>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6F5E-E6E9-44F7-975D-793CEDE37F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74EC-4E67-4B83-9704-C9F247E67A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4C35-A2A5-44B1-9EA0-81DE6BFAC2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249A-F5B0-4A71-9270-37C838E94A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BB81-4468-4C47-B35A-D95BFCBE56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5D49-853E-41B3-BBB3-74773088CF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2F91-E886-4C50-8AEE-A4C2041A07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FC48-5C12-49A2-B67F-6E19F82B36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79D8-0CA0-4FE5-AF2D-F676DCD668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2" name="PlaceHolder 1"/>
          <p:cNvSpPr>
            <a:spLocks noGrp="1"/>
          </p:cNvSpPr>
          <p:nvPr>
            <p:ph type="sldImg"/>
          </p:nvPr>
        </p:nvSpPr>
        <p:spPr>
          <a:xfrm>
            <a:off x="1257480" y="720720"/>
            <a:ext cx="4800600" cy="3600360"/>
          </a:xfrm>
          <a:prstGeom prst="rect">
            <a:avLst/>
          </a:prstGeom>
          <a:ln w="0">
            <a:noFill/>
          </a:ln>
        </p:spPr>
      </p:sp>
      <p:sp>
        <p:nvSpPr>
          <p:cNvPr id="3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F188-AC9C-42CD-B9A6-15294D5DFC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0338-A80E-47A5-A706-9D7AEFC0B36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F08F4-FFB3-4AA3-8127-0E946D249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E4FD3-E4B1-4653-8F7A-54EBF16D6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B0765-2136-466D-8D66-310701812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3F880-F0C1-40ED-8BAA-D2CDE3D76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A6C89-D06E-4770-8E2F-23DAF38A4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6F3F7-19BF-4A64-A137-19D54CF90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036C7-5DF4-487B-B44B-87827EAD2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54317-D930-4B3C-B924-5CA01B691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DFF4F-4484-4989-9178-60A6B1229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AD77E-A0AF-4F14-AAEB-793F4A7C8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28B10-F2D8-4813-BA5C-C1DF41E89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9A7D4-4962-4532-847B-16BEC8BFD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5C8A1-2706-4192-9AC6-968DA358E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3ADBC-4C44-4E62-A563-92F3A93FF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5FB06-9368-452F-8958-EAB4696D6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B04AE-B877-4D70-9C09-FBC41D668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F69E7-CD75-4DBC-B21D-EF9720117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BA9C8C-22CD-45BB-9C04-4287FDA246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278BFC-A1D6-45B1-A554-650AAF319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18EE8E-D229-47C8-BCC8-8D4BEDF2EA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8A5D83-D63A-491D-89F2-EBD2B37CB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BF4BBF-2D53-4F63-878D-87CAD89C53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32FB0-D692-4BBC-AC09-7E0EC0057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7F882-B2EB-402A-AB38-A061BBB4E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83432-01F4-40EB-819F-DCACA6A1D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6407E-F358-4E27-8F55-FC3489AA4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3C465-95CB-4E4E-BE18-F6F656623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198ECF-9F1C-4624-A24D-F14DBD736A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4662AB-791A-47F2-8373-3B98F48CD4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D018BB-1907-485F-B80F-8CEE4968AA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653E2E-DB44-4EB3-9B7B-599CAFD5DF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A815A0-BB23-4928-9E79-6E19DD075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D5D329-4B82-4BCA-B6F1-3D4D3F7F4C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CF60B-26D7-484A-8989-98B1EE762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852F0C-286B-4365-AF96-AC69BBCC39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4F230-9F26-4585-9451-46ED075DE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48FC5-004A-4E50-9F5D-9F6D8A895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360ED-8BD1-44E3-A0B1-4D75DAFD5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9E9C7-B298-45C2-8FB7-1A38A1B50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5DFCD-98E4-4312-BE44-D7D05A109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33AF31-F8BB-46AD-9BAB-E14C2BD8CE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3FF152-EC61-4194-90E1-489B04392E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2B21BC-5C4C-43BE-B980-1BCEE7CB69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830C01-6C5C-47C0-AB84-E3AA5B3AC6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4F360-109A-45FE-856A-192B911D2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5EB66C-757A-48D8-A9C1-3E93E7CA64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D366E2-6504-4B87-8C63-F85A503262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83787C-C5A3-4DA2-820A-81ADD18FE4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3B6A1F-95A5-4EFF-A86F-A39FF6B2AC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71548B-6597-4190-AC54-A44A62C16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E0482-8DC7-4E9D-BFBA-4183A0AF1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925635-07EC-4F5F-AD7A-EC387229D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BA58A-F829-4425-B1A4-01408C7BE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DD9FB-3724-490B-B03B-5F8FC5558C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7EB8FB-1D8C-4833-ACAF-32BCFC7D7D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7924A-D705-4F8F-BC05-8A9ACE44F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07169E-517F-4E8B-81EE-2D28D8A9A9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CAD2-9580-4118-83E3-4BB2AD6E5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E01CA-5E6E-435B-B229-81925B335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529B-2CEC-44A2-8802-DD373AC34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CB55-BDDA-46B8-B3D9-587D7781C83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7" name="Group 7"/>
          <p:cNvGrpSpPr/>
          <p:nvPr/>
        </p:nvGrpSpPr>
        <p:grpSpPr>
          <a:xfrm>
            <a:off x="533520" y="1371600"/>
            <a:ext cx="8424720" cy="658800"/>
            <a:chOff x="533520" y="1371600"/>
            <a:chExt cx="8424720" cy="658800"/>
          </a:xfrm>
        </p:grpSpPr>
        <p:pic>
          <p:nvPicPr>
            <p:cNvPr id="8" name="Picture 8" descr="C:\Documents and Settings\amydg\Application Data\Microsoft\Media Catalog\Downloaded Clips\cl0\HH00624_.wmf"/>
            <p:cNvPicPr/>
            <p:nvPr/>
          </p:nvPicPr>
          <p:blipFill>
            <a:blip r:embed="rId2"/>
            <a:stretch/>
          </p:blipFill>
          <p:spPr>
            <a:xfrm>
              <a:off x="8305920" y="1371600"/>
              <a:ext cx="652320" cy="658800"/>
            </a:xfrm>
            <a:prstGeom prst="rect">
              <a:avLst/>
            </a:prstGeom>
            <a:ln w="9360">
              <a:solidFill>
                <a:srgbClr val="808080"/>
              </a:solidFill>
              <a:miter/>
            </a:ln>
          </p:spPr>
        </p:pic>
        <p:sp>
          <p:nvSpPr>
            <p:cNvPr id="9" name="Line 9"/>
            <p:cNvSpPr/>
            <p:nvPr/>
          </p:nvSpPr>
          <p:spPr>
            <a:xfrm>
              <a:off x="533520" y="1828800"/>
              <a:ext cx="792468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ounded Rectangle 12"/>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5"/>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6"/>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692B-67E3-4902-BDAB-49B16181B9E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Rounded Rectangle 12"/>
          <p:cNvGrpSpPr/>
          <p:nvPr/>
        </p:nvGrpSpPr>
        <p:grpSpPr>
          <a:xfrm>
            <a:off x="66600" y="66600"/>
            <a:ext cx="9016920" cy="6699240"/>
            <a:chOff x="66600" y="66600"/>
            <a:chExt cx="9016920" cy="6699240"/>
          </a:xfrm>
        </p:grpSpPr>
        <p:pic>
          <p:nvPicPr>
            <p:cNvPr id="94" name="Rounded Rectangle 12" descr=""/>
            <p:cNvPicPr/>
            <p:nvPr/>
          </p:nvPicPr>
          <p:blipFill>
            <a:blip r:embed="rId3"/>
            <a:stretch/>
          </p:blipFill>
          <p:spPr>
            <a:xfrm>
              <a:off x="66600" y="66600"/>
              <a:ext cx="9016920" cy="66992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Rectangle 14"/>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5"/>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6"/>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8C36-83E3-4782-8DE2-26282BECD05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7"/>
          <p:cNvGrpSpPr/>
          <p:nvPr/>
        </p:nvGrpSpPr>
        <p:grpSpPr>
          <a:xfrm>
            <a:off x="533520" y="1371600"/>
            <a:ext cx="8424720" cy="658800"/>
            <a:chOff x="533520" y="1371600"/>
            <a:chExt cx="8424720" cy="658800"/>
          </a:xfrm>
        </p:grpSpPr>
        <p:pic>
          <p:nvPicPr>
            <p:cNvPr id="143" name="Picture 8" descr="C:\Documents and Settings\amydg\Application Data\Microsoft\Media Catalog\Downloaded Clips\cl0\HH00624_.wmf"/>
            <p:cNvPicPr/>
            <p:nvPr/>
          </p:nvPicPr>
          <p:blipFill>
            <a:blip r:embed="rId2"/>
            <a:stretch/>
          </p:blipFill>
          <p:spPr>
            <a:xfrm>
              <a:off x="8305920" y="1371600"/>
              <a:ext cx="652320" cy="658800"/>
            </a:xfrm>
            <a:prstGeom prst="rect">
              <a:avLst/>
            </a:prstGeom>
            <a:ln w="9360">
              <a:solidFill>
                <a:srgbClr val="808080"/>
              </a:solidFill>
              <a:miter/>
            </a:ln>
          </p:spPr>
        </p:pic>
        <p:sp>
          <p:nvSpPr>
            <p:cNvPr id="144" name="Line 9"/>
            <p:cNvSpPr/>
            <p:nvPr/>
          </p:nvSpPr>
          <p:spPr>
            <a:xfrm>
              <a:off x="533520" y="1828800"/>
              <a:ext cx="792468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ounded Rectangle 12"/>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3A4C-F0CB-40FB-AC92-42533D8738E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533520" y="1371600"/>
            <a:ext cx="8424720" cy="658800"/>
            <a:chOff x="533520" y="1371600"/>
            <a:chExt cx="8424720" cy="658800"/>
          </a:xfrm>
        </p:grpSpPr>
        <p:pic>
          <p:nvPicPr>
            <p:cNvPr id="191" name="Picture 8" descr="C:\Documents and Settings\amydg\Application Data\Microsoft\Media Catalog\Downloaded Clips\cl0\HH00624_.wmf"/>
            <p:cNvPicPr/>
            <p:nvPr/>
          </p:nvPicPr>
          <p:blipFill>
            <a:blip r:embed="rId2"/>
            <a:stretch/>
          </p:blipFill>
          <p:spPr>
            <a:xfrm>
              <a:off x="8305920" y="1371600"/>
              <a:ext cx="652320" cy="658800"/>
            </a:xfrm>
            <a:prstGeom prst="rect">
              <a:avLst/>
            </a:prstGeom>
            <a:ln w="9360">
              <a:solidFill>
                <a:srgbClr val="808080"/>
              </a:solidFill>
              <a:miter/>
            </a:ln>
          </p:spPr>
        </p:pic>
        <p:sp>
          <p:nvSpPr>
            <p:cNvPr id="192" name="Line 9"/>
            <p:cNvSpPr/>
            <p:nvPr/>
          </p:nvSpPr>
          <p:spPr>
            <a:xfrm>
              <a:off x="533520" y="1828800"/>
              <a:ext cx="792468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12"/>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14"/>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8"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C817-9DDC-449E-B29F-346E936C394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ubTitle"/>
          </p:nvPr>
        </p:nvSpPr>
        <p:spPr>
          <a:xfrm>
            <a:off x="304920" y="3352680"/>
            <a:ext cx="8229600" cy="2743200"/>
          </a:xfrm>
          <a:prstGeom prst="rect">
            <a:avLst/>
          </a:prstGeom>
          <a:noFill/>
          <a:ln w="0">
            <a:noFill/>
          </a:ln>
        </p:spPr>
        <p:txBody>
          <a:bodyPr lIns="92160" rIns="92160" tIns="46080" bIns="46080" anchor="ctr">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Perpetua"/>
              </a:rPr>
              <a:t>The process of designing and maintaining an environment in which individuals can work with others efficiently and effectively to accomplish set goals</a:t>
            </a:r>
            <a:r>
              <a:rPr b="0" lang="en-US" sz="3600" spc="-1" strike="noStrike">
                <a:solidFill>
                  <a:srgbClr val="696464"/>
                </a:solidFill>
                <a:latin typeface="Perpetua"/>
              </a:rPr>
              <a:t>.</a:t>
            </a:r>
            <a:endParaRPr b="0" lang="en-US" sz="3600" spc="-1" strike="noStrike">
              <a:solidFill>
                <a:srgbClr val="000000"/>
              </a:solidFill>
              <a:latin typeface="Perpetua"/>
            </a:endParaRPr>
          </a:p>
        </p:txBody>
      </p:sp>
      <p:sp>
        <p:nvSpPr>
          <p:cNvPr id="245" name="Text Box 5"/>
          <p:cNvSpPr/>
          <p:nvPr/>
        </p:nvSpPr>
        <p:spPr>
          <a:xfrm>
            <a:off x="1905120" y="1828800"/>
            <a:ext cx="5333760" cy="82512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Management</a:t>
            </a:r>
            <a:endParaRPr b="0"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Manager Works in A Spotlight</a:t>
            </a:r>
            <a:endParaRPr b="0" lang="en-US" sz="36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wners evaluate the cooperative with every transac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ustomer/owners express opinions directly to the manag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cision on product line, inventory, hours of operation and seasonal locations may be more politic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perative manager is more likely to have a hands-on role in local oper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Business Model Has Different Control and Incentive</a:t>
            </a:r>
            <a:endParaRPr b="0" lang="en-US" sz="3600" spc="-1" strike="noStrike">
              <a:solidFill>
                <a:srgbClr val="696464"/>
              </a:solidFill>
              <a:latin typeface="Franklin Gothic Book"/>
            </a:endParaRPr>
          </a:p>
        </p:txBody>
      </p:sp>
      <p:sp>
        <p:nvSpPr>
          <p:cNvPr id="265" name=""/>
          <p:cNvSpPr txBox="1"/>
          <p:nvPr/>
        </p:nvSpPr>
        <p:spPr>
          <a:xfrm>
            <a:off x="914400" y="198108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perative manager does not gain stock options or ownershi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perative manager has to respond to the majority of the ownership not just the major stockhold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agement styles from investor owned firms may not be successful in a coopera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goal (objective function) of a cooperative is more complex</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our and ½ Ways Members Benefit</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vorable Pri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tronage Refunds (cash and stock)</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rvices Provid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vidends on invested capital (not as comm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creased Competitive Environ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vorable Prices</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mediate benefit popular with young memb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blems for manager</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iss estimate costs and generate a los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nnot generate equity</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nefit not realized by member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etition reacts benefiting non-member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storts the value of investing in the cooperative since there is low RO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vidends on Invested Equity</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y be limited by state or federal statu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ten is set at zer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ould increase willingness to invest and/or maintain long revolving cyc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opular with heavily invested members who may not be using the coopera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petes with the ability to provide funds to users through patronage refund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atronage Refunds</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undamental cooperative principle and method of creating equi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 relation to invested capit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d in stock and cash-members always prefer the immediate benefit of cas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flict arises in redeeming previously issued stock refunds since it competes for the cash needed to pay current refun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ervices Provided</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common rationale for establishing a coopera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ther firms may not provide the service or provide it at competitive pri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perative may be a better position to understand customer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flict in multi-product or multi-service cooperatives when one product or service is being subsidized by other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creased Competitive Environmen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visible benefit of cooperati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blem is that it is often not recognized until the cooperative disappear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lf a benefit because it also is available to non user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w do members exercise control in a cooperative</a:t>
            </a:r>
            <a:endParaRPr b="0" lang="en-US" sz="4000" spc="-1" strike="noStrike">
              <a:solidFill>
                <a:srgbClr val="696464"/>
              </a:solidFill>
              <a:latin typeface="Franklin Gothic Book"/>
            </a:endParaRPr>
          </a:p>
        </p:txBody>
      </p:sp>
      <p:sp>
        <p:nvSpPr>
          <p:cNvPr id="279" name=""/>
          <p:cNvSpPr txBox="1"/>
          <p:nvPr/>
        </p:nvSpPr>
        <p:spPr>
          <a:xfrm>
            <a:off x="914400" y="19051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Voicing opinions to board and manager</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Voting to elect director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ccasionally voting on big issues involving structural change</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Voting with their feet (discontinue using the cooperative)</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mocratic process should not interfere with good business decisions but may require more communicatio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The Cooperative Management Dilemma</a:t>
            </a:r>
            <a:endParaRPr b="0" lang="en-US" sz="3600" spc="-1" strike="noStrike">
              <a:solidFill>
                <a:srgbClr val="696464"/>
              </a:solidFill>
              <a:latin typeface="Franklin Gothic Book"/>
            </a:endParaRPr>
          </a:p>
        </p:txBody>
      </p:sp>
      <p:sp>
        <p:nvSpPr>
          <p:cNvPr id="281" name=""/>
          <p:cNvSpPr txBox="1"/>
          <p:nvPr/>
        </p:nvSpPr>
        <p:spPr>
          <a:xfrm>
            <a:off x="914400" y="198108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 we operate as a membership organiz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 we operate as a business enterpris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manager should operate as an efficient business organization but they must realize the inherent differences that arise when most customers are also owner and who expect to have frequent opportunities to provide input to the manager.</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is Management?</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cience and an a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teracting with people to achieve result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ing resources to achieve objecti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alancing tradeoff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6091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The following slides have examples of cooperative management activities involving</a:t>
            </a:r>
            <a:r>
              <a:rPr b="0" lang="en-US" sz="4000" spc="-1" strike="noStrike">
                <a:solidFill>
                  <a:srgbClr val="696464"/>
                </a:solidFill>
                <a:latin typeface="Franklin Gothic Book"/>
              </a:rPr>
              <a:t>:</a:t>
            </a:r>
            <a:endParaRPr b="0" lang="en-US" sz="4000" spc="-1" strike="noStrike">
              <a:solidFill>
                <a:srgbClr val="696464"/>
              </a:solidFill>
              <a:latin typeface="Franklin Gothic Book"/>
            </a:endParaRPr>
          </a:p>
        </p:txBody>
      </p:sp>
      <p:sp>
        <p:nvSpPr>
          <p:cNvPr id="283" name=""/>
          <p:cNvSpPr txBox="1"/>
          <p:nvPr/>
        </p:nvSpPr>
        <p:spPr>
          <a:xfrm>
            <a:off x="914400" y="205740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op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pit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lan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cision mak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modity market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rm supply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tivities in larger cooperati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ther</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operative Manager-People</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ager involved in customer rela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wo way communication with customer/memb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ducating members about the coopera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lationship with lend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lationship with regional cooperati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equent contact with board memb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operative Manager: Capital</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operative board and manager must actively manage the balance she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herent tradeoff between member’s realized return and liquidity of the coopera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butions of returns are complex</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Manager Role: Planning</a:t>
            </a:r>
            <a:endParaRPr b="0" lang="en-US" sz="36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rating budgets must be prepared each yea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xed asset replacement budg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rvest and fertilizer season prepar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al or informal feasibility stud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st cooperatives have one or more on-going infrastructure replacement projects at all tim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Manager Role</a:t>
            </a:r>
            <a:br>
              <a:rPr sz="3600"/>
            </a:br>
            <a:r>
              <a:rPr b="0" lang="en-US" sz="3600" spc="-1" strike="noStrike">
                <a:solidFill>
                  <a:srgbClr val="696464"/>
                </a:solidFill>
                <a:latin typeface="Franklin Gothic Book"/>
              </a:rPr>
              <a:t>Marketing</a:t>
            </a:r>
            <a:endParaRPr b="0" lang="en-US" sz="3600" spc="-1" strike="noStrike">
              <a:solidFill>
                <a:srgbClr val="696464"/>
              </a:solidFill>
              <a:latin typeface="Franklin Gothic Book"/>
            </a:endParaRPr>
          </a:p>
        </p:txBody>
      </p:sp>
      <p:sp>
        <p:nvSpPr>
          <p:cNvPr id="291" name=""/>
          <p:cNvSpPr txBox="1"/>
          <p:nvPr/>
        </p:nvSpPr>
        <p:spPr>
          <a:xfrm>
            <a:off x="685800" y="1828800"/>
            <a:ext cx="7772400" cy="4114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sembling or owning trucks, rail arrangement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icing products and establishing margi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tablishing and monitoring contracts with memb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tablishing grain storage polici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nitoring stored product manage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Manager Role-Farm Supply</a:t>
            </a:r>
            <a:endParaRPr b="0" lang="en-US" sz="3600" spc="-1" strike="noStrike">
              <a:solidFill>
                <a:srgbClr val="696464"/>
              </a:solidFill>
              <a:latin typeface="Franklin Gothic Book"/>
            </a:endParaRPr>
          </a:p>
        </p:txBody>
      </p:sp>
      <p:sp>
        <p:nvSpPr>
          <p:cNvPr id="2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termining market potential and forecasting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urchasing suppl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aging inventor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icing suppl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tablishing and monitoring credi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ing custom and technical servi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ing information to patr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80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operative Manager Role: Larger Cooperatives</a:t>
            </a:r>
            <a:endParaRPr b="0" lang="en-US" sz="3600" spc="-1" strike="noStrike">
              <a:solidFill>
                <a:srgbClr val="696464"/>
              </a:solidFill>
              <a:latin typeface="Franklin Gothic Book"/>
            </a:endParaRPr>
          </a:p>
        </p:txBody>
      </p:sp>
      <p:sp>
        <p:nvSpPr>
          <p:cNvPr id="295" name=""/>
          <p:cNvSpPr txBox="1"/>
          <p:nvPr/>
        </p:nvSpPr>
        <p:spPr>
          <a:xfrm>
            <a:off x="685800" y="1752480"/>
            <a:ext cx="7772400" cy="41148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stablishing departments and branch operations</a:t>
            </a:r>
            <a:endParaRPr b="0" lang="en-US" sz="2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ing a management team</a:t>
            </a:r>
            <a:endParaRPr b="0" lang="en-US" sz="2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naging a large employee team</a:t>
            </a:r>
            <a:endParaRPr b="0" lang="en-US" sz="2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mmunicating with a large number of members over a wide geographic area</a:t>
            </a:r>
            <a:endParaRPr b="0" lang="en-US" sz="2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stablishing fair operating policies across branches</a:t>
            </a:r>
            <a:endParaRPr b="0" lang="en-US" sz="2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valuating and participating in JVs and Alliance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operative Manager Role: Other</a:t>
            </a:r>
            <a:endParaRPr b="0" lang="en-US" sz="4000" spc="-1" strike="noStrike">
              <a:solidFill>
                <a:srgbClr val="696464"/>
              </a:solidFill>
              <a:latin typeface="Franklin Gothic Book"/>
            </a:endParaRPr>
          </a:p>
        </p:txBody>
      </p:sp>
      <p:sp>
        <p:nvSpPr>
          <p:cNvPr id="29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nderstanding and complying with requirements of government agencies and regulato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aluating mergers and acquisi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rticipating in industry organiza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inuing to learn about the competitive environment and innovative strateg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Question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anger’s Roles in the Cooperative</a:t>
            </a:r>
            <a:endParaRPr b="0" lang="en-US" sz="4000" spc="-1" strike="noStrike">
              <a:solidFill>
                <a:srgbClr val="696464"/>
              </a:solidFill>
              <a:latin typeface="Franklin Gothic Book"/>
            </a:endParaRPr>
          </a:p>
        </p:txBody>
      </p:sp>
      <p:sp>
        <p:nvSpPr>
          <p:cNvPr id="249" name=""/>
          <p:cNvSpPr txBox="1"/>
          <p:nvPr/>
        </p:nvSpPr>
        <p:spPr>
          <a:xfrm>
            <a:off x="0" y="1523880"/>
            <a:ext cx="9144000" cy="411480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Figurehead – public face of the cooperative</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Leader – makes decisions and leads employee group</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Liason – gateway between board and employees </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Recipient-- receives information from board, employees and member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Disseminator-- issues information to board, employees and member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Spokesperson -- represents co-op externally</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Entrepreneur-- calculated risk taker</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Disturbance handler-handles disputes between employees and member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Resource allocator-develops budgets and assigns personnel</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Negotiator-bargains with suppliers and buyer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anagement Skills</a:t>
            </a:r>
            <a:endParaRPr b="0" lang="en-US" sz="4000" spc="-1" strike="noStrike">
              <a:solidFill>
                <a:srgbClr val="696464"/>
              </a:solidFill>
              <a:latin typeface="Franklin Gothic Book"/>
            </a:endParaRPr>
          </a:p>
        </p:txBody>
      </p:sp>
      <p:sp>
        <p:nvSpPr>
          <p:cNvPr id="251" name=""/>
          <p:cNvSpPr txBox="1"/>
          <p:nvPr/>
        </p:nvSpPr>
        <p:spPr>
          <a:xfrm>
            <a:off x="685800" y="2286000"/>
            <a:ext cx="7772400" cy="41148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Technical and operational</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Financial</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Human resource management</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Planning and project management</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ritical thinking and decision making</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UNCTIONS OF MANAGEMENT</a:t>
            </a:r>
            <a:endParaRPr b="0" lang="en-US" sz="4000" spc="-1" strike="noStrike">
              <a:solidFill>
                <a:srgbClr val="696464"/>
              </a:solidFill>
              <a:latin typeface="Franklin Gothic Book"/>
            </a:endParaRPr>
          </a:p>
        </p:txBody>
      </p:sp>
      <p:sp>
        <p:nvSpPr>
          <p:cNvPr id="253" name=""/>
          <p:cNvSpPr txBox="1"/>
          <p:nvPr/>
        </p:nvSpPr>
        <p:spPr>
          <a:xfrm>
            <a:off x="609480" y="1980720"/>
            <a:ext cx="7848720" cy="449604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Planning</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Organizing</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Directing</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Staffing</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Controlling </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Coordination</a:t>
            </a:r>
            <a:endParaRPr b="0" lang="en-US" sz="3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Social &amp; ethical responsibilities</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Goals of the Cooperative Manager</a:t>
            </a:r>
            <a:endParaRPr b="0" lang="en-US" sz="4000" spc="-1" strike="noStrike">
              <a:solidFill>
                <a:srgbClr val="696464"/>
              </a:solidFill>
              <a:latin typeface="Franklin Gothic Book"/>
            </a:endParaRPr>
          </a:p>
        </p:txBody>
      </p:sp>
      <p:sp>
        <p:nvSpPr>
          <p:cNvPr id="255" name=""/>
          <p:cNvSpPr txBox="1"/>
          <p:nvPr/>
        </p:nvSpPr>
        <p:spPr>
          <a:xfrm>
            <a:off x="685440" y="2057400"/>
            <a:ext cx="8458200" cy="4114800"/>
          </a:xfrm>
          <a:prstGeom prst="rect">
            <a:avLst/>
          </a:prstGeom>
          <a:noFill/>
          <a:ln w="0">
            <a:noFill/>
          </a:ln>
        </p:spPr>
        <p:txBody>
          <a:bodyPr anchor="t">
            <a:normAutofit fontScale="93000"/>
          </a:bodyPr>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run an efficient operation</a:t>
            </a:r>
            <a:endParaRPr b="0" lang="en-US" sz="33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manage and build human resources</a:t>
            </a:r>
            <a:endParaRPr b="0" lang="en-US" sz="33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collaborate with the board of directors</a:t>
            </a:r>
            <a:endParaRPr b="0" lang="en-US" sz="33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create a profit</a:t>
            </a:r>
            <a:endParaRPr b="0" lang="en-US" sz="33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plan for and protect the future viability of the cooperative</a:t>
            </a:r>
            <a:endParaRPr b="0" lang="en-US" sz="33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To distribute benefits to members through service, patronage and revolving equity</a:t>
            </a:r>
            <a:endParaRPr b="0" lang="en-US" sz="3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Is Managing a Cooperative Different?</a:t>
            </a:r>
            <a:endParaRPr b="0" lang="en-US" sz="3600" spc="-1" strike="noStrike">
              <a:solidFill>
                <a:srgbClr val="696464"/>
              </a:solidFill>
              <a:latin typeface="Franklin Gothic Book"/>
            </a:endParaRPr>
          </a:p>
        </p:txBody>
      </p:sp>
      <p:sp>
        <p:nvSpPr>
          <p:cNvPr id="257" name=""/>
          <p:cNvSpPr txBox="1"/>
          <p:nvPr/>
        </p:nvSpPr>
        <p:spPr>
          <a:xfrm>
            <a:off x="914400" y="19051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loser, more long-term relationship with customers</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ust weigh trade-offs between member’s realized return and financial well being of cooperative</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re political, more emphasis on communication</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ssibly, a greater emphasis on ethics</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re complex objective function since members benefit from market access, price, patronage, revolving equity and risk pooling</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Adjusting Decision Making When the Customers are Owners</a:t>
            </a:r>
            <a:endParaRPr b="0" lang="en-US" sz="3600" spc="-1" strike="noStrike">
              <a:solidFill>
                <a:srgbClr val="696464"/>
              </a:solidFill>
              <a:latin typeface="Franklin Gothic Book"/>
            </a:endParaRPr>
          </a:p>
        </p:txBody>
      </p:sp>
      <p:sp>
        <p:nvSpPr>
          <p:cNvPr id="259" name=""/>
          <p:cNvSpPr txBox="1"/>
          <p:nvPr/>
        </p:nvSpPr>
        <p:spPr>
          <a:xfrm>
            <a:off x="914400" y="19051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wners also receive returns  through transac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ximizing ROE is not the only object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uaranteeing a market or supply is also importa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ustomers have long-term relationship with firm and manager</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Distributing Net Earnings is Much More Complex</a:t>
            </a:r>
            <a:endParaRPr b="0" lang="en-US" sz="36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gle or multiple patronage pool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taining earnings as unallocated reserv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buting in cash, qualified stock or non-qualified stock</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ter-related with balance sheet management, equity retirement and infrastructure invest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20:55:00Z</dcterms:created>
  <dc:creator>Amy Gilbert</dc:creator>
  <dc:description/>
  <dc:language>en-US</dc:language>
  <cp:lastModifiedBy>Carvalho, Mckenzie</cp:lastModifiedBy>
  <dcterms:modified xsi:type="dcterms:W3CDTF">2019-08-20T21:08:30Z</dcterms:modified>
  <cp:revision>56</cp:revision>
  <dc:subject/>
  <dc:title>Cooperative Orientation Series</dc:title>
</cp:coreProperties>
</file>